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18B93-AFD4-41F9-8AF9-0B4A6FFEC78E}" type="slidenum">
              <a:rPr b="1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Фирмы в экономик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фирм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производства и факторные дох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е и бухгалтерские издерж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оянные и переменные издержки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и, уплачиваемые предприят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2F824-9191-4C5E-AC7A-693C4F28A30F}" type="slidenum">
              <a:rPr b="1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Верны ли суждения о прибыли фирмы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кономическая прибыль учитывает внутренние и внешние издержки фи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Б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Бухгалтерская прибыль получается путем вычитания суммы внешних издержек фирмы из выручки от продаж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но только 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но только 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ны оба су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а суждения невер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2DE31-5129-4D0F-A772-D97D3153217B}" type="slidenum">
              <a:rPr b="1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Что значит эффективный бизнес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Эффект (в экономике)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ретный положительный результат какой-либо деятельности (например, прирост прибыли, полученной фирмой по сравнению с прошлым годо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Эффективность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ивность процесса, определяемая как отношение эффекта, результата к затрат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Рентабельность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е прибыли, полученной предприятием за определенный период, к сделанным за тот же период затрат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77741-24F5-48F5-AC14-538F3D7C9386}" type="slidenum">
              <a:rPr b="1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Налоги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ые платежи физических и юридических лиц государст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A4A25-E12B-4711-B910-80822BC44F01}" type="slidenum">
              <a:rPr b="1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граф 4, задания 3, 4 на странице 54 - выполнить письменно, текст лекции - уч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01459-BEA2-4249-82E2-EAD1A66322BC}" type="slidenum">
              <a:rPr b="1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91243-79B6-4070-8499-D2EDB0EE520C}" type="slidenum">
              <a:rPr b="1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условиях рыночной экономики производитель формирует предложение товаров и услуг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Выручка (или валовый доход)  -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 производителя от реализуемой им продук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рибыль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ица между доходами и издерж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Цель производителя в рыночной экономике -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получить максимальную прибыль при минимальных затрат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FBD3F-E9CC-44C1-B10A-D05B480F4EDA}" type="slidenum">
              <a:rPr b="1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ыберите правильный ответ. </a:t>
            </a: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Доход производителя от реализуемой им продукции назыв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был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уч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держк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л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20E74-9715-4FD3-AADA-890A0D0E5EFB}" type="slidenum">
              <a:rPr b="1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нутренние (неявные) издержки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ы денежным выплатам, которые могли бы быть получены за самостоятельно используемый ресурс, если бы его собственник вложил его в чужое дело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нешние (бухгалтерские) издержки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умма денежных выплат, которые фирма осуществляет для оплаты необходимых ресурсо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79F1B-9664-48D5-8FC1-8126C46F4114}" type="slidenum">
              <a:rPr b="1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Амортизация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ньшение стоимости капитальных ресурсов по мере их износа в процессе производственного исполь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0E476-0EA9-467E-A85B-14E74E5F3489}" type="slidenum">
              <a:rPr b="1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Ателье производит закупку тканей, ниток и фурнитуры для пошива одежды. Затраты фирмы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енние, перем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енние, постоя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ие, перем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ие, постоян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Гражданин организовал на принадлежащем ему загородном участке гостиницу для собак и кошек: построил дом и открытые вольеры, закупил корма. Сам гражданин и его семья работают в гостинице. Что относится к внутренним затрата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упка кор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ительство волье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рудование д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зем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F9953-4CF5-4CDB-9CB7-8C141471FC0A}" type="slidenum">
              <a:rPr b="1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87B5-A1C6-4012-BD2F-D9BA2B05F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8AC9-3AB8-4351-B4F5-216E18D26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7B21-936C-4B5F-B2FB-007CA4303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7768-E9CF-4F3D-BCA2-D0FAC849B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F9A0A-DD0B-4068-A6F4-5874AFB1D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3CD5F-8AB1-48DF-A9C7-550B81DF1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A522D-DBCA-49E9-8D51-EA4E08E70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413AF-C9DB-4B32-AE22-381212B58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02581-BE39-4EE6-A05F-B72DFB285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218A7-2DE4-4DF1-9852-C75CC3341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5F7E4-F932-471B-899D-788B67FF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8377-0A7B-4FA7-9A82-7EE5B3466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A29BE-CD2F-4D29-9C3B-FAB5E100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C1DD1-8EEE-42D5-A8A5-67B7A602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A4CA6-3568-4AB4-B9C2-C4A1FD20E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04AC6-A9EE-4968-84CF-18E363E1E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701AA-18A0-4BC6-9481-8C8D956D3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CFC8-70B9-4A88-B21A-DAD2D204D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9C9C-40A1-48C2-90A1-25C7AA8F7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4F33-210C-4942-82D6-239AB34E1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5701-AF26-47E5-B4D3-2A6289F69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D5EB-4728-4924-B8B7-D0F33212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0A88-CDEF-4697-B044-1CE592F1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0D22-6832-451D-A074-9A9A0A36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B787D-6EAC-40BF-A146-975CDA43D7C9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62CF8-190B-4B80-B1A3-289DA2D94F2B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Фирмы в экономике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218960"/>
            <a:ext cx="4952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то такое фирм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акторы производства и факторные дохо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кономические и бухгалтерские издерж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стоянные и переменные издержки производ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логи, уплачиваемые предприятия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6" descr="MH900412568"/>
          <p:cNvPicPr/>
          <p:nvPr/>
        </p:nvPicPr>
        <p:blipFill>
          <a:blip r:embed="rId1"/>
          <a:stretch/>
        </p:blipFill>
        <p:spPr>
          <a:xfrm>
            <a:off x="6048360" y="3581280"/>
            <a:ext cx="3095640" cy="309564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4"/>
          <p:cNvSpPr/>
          <p:nvPr/>
        </p:nvSpPr>
        <p:spPr>
          <a:xfrm>
            <a:off x="2915640" y="762120"/>
            <a:ext cx="2631240" cy="703440"/>
          </a:xfrm>
          <a:prstGeom prst="rect">
            <a:avLst/>
          </a:prstGeom>
          <a:noFill/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Прибыль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Line 6"/>
          <p:cNvSpPr/>
          <p:nvPr/>
        </p:nvSpPr>
        <p:spPr>
          <a:xfrm flipH="1">
            <a:off x="1523520" y="1600200"/>
            <a:ext cx="1295640" cy="38088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Line 7"/>
          <p:cNvSpPr/>
          <p:nvPr/>
        </p:nvSpPr>
        <p:spPr>
          <a:xfrm>
            <a:off x="5562720" y="1600200"/>
            <a:ext cx="1371600" cy="45720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228600" y="2209680"/>
            <a:ext cx="3352680" cy="265428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Экономическая прибыль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о разница между совокупной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ручкой фирмы и экономическими издержкам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4419720" y="2209680"/>
            <a:ext cx="3444840" cy="265428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Бухгалтерская прибыль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о разница между совокупной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ручкой и бухгалтерским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держкам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Верны ли суждения о прибыли фирмы?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А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Экономическая прибыль учитывает внутренние и внешние издержки фирм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Б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Бухгалтерская прибыль получается путем вычитания суммы внешних издержек фирмы из выручки от продаж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рно только 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рно только 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рны оба сужд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а суждения неверн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Что значит эффективный бизнес?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Эффект (в экономике) 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нкретный положительный результат какой-либо деятельности (например, прирост прибыли, полученной фирмой по сравнению с прошлым годом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Эффективность 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зультативность процесса, определяемая как отношение эффекта, результата к затрата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Рентабельность 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ношение прибыли, полученной предприятием за определенный период, к сделанным за тот же период затрата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838080" y="4800600"/>
            <a:ext cx="778824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ahoma"/>
              </a:rPr>
              <a:t>Рентабельность =</a:t>
            </a:r>
            <a:r>
              <a:rPr b="1" lang="ru-RU" sz="36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1" lang="ru-RU" sz="4000" spc="-1" strike="noStrike" baseline="30000">
                <a:solidFill>
                  <a:srgbClr val="ff0066"/>
                </a:solidFill>
                <a:latin typeface="Tahoma"/>
              </a:rPr>
              <a:t>прибыль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baseline="30000">
                <a:solidFill>
                  <a:srgbClr val="ff0066"/>
                </a:solidFill>
                <a:latin typeface="Tahoma"/>
              </a:rPr>
              <a:t>	</a:t>
            </a:r>
            <a:r>
              <a:rPr b="1" lang="ru-RU" sz="4000" spc="-1" strike="noStrike" baseline="30000">
                <a:solidFill>
                  <a:srgbClr val="ff0066"/>
                </a:solidFill>
                <a:latin typeface="Tahoma"/>
              </a:rPr>
              <a:t>	</a:t>
            </a:r>
            <a:r>
              <a:rPr b="1" lang="ru-RU" sz="4000" spc="-1" strike="noStrike" baseline="30000">
                <a:solidFill>
                  <a:srgbClr val="ff0066"/>
                </a:solidFill>
                <a:latin typeface="Tahoma"/>
              </a:rPr>
              <a:t>	</a:t>
            </a:r>
            <a:r>
              <a:rPr b="1" lang="ru-RU" sz="4000" spc="-1" strike="noStrike">
                <a:solidFill>
                  <a:srgbClr val="ff0066"/>
                </a:solidFill>
                <a:latin typeface="Tahoma"/>
              </a:rPr>
              <a:t>     </a:t>
            </a:r>
            <a:r>
              <a:rPr b="1" lang="ru-RU" sz="4000" spc="-1" strike="noStrike" baseline="30000">
                <a:solidFill>
                  <a:srgbClr val="ff0066"/>
                </a:solidFill>
                <a:latin typeface="Tahoma"/>
              </a:rPr>
              <a:t>затраты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4419720" y="5867280"/>
            <a:ext cx="167616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Налоги -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это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бязательные платежи физических и юридических лиц государству.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2971800" y="1752480"/>
            <a:ext cx="3352680" cy="9144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Три системы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налогообложения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Line 8"/>
          <p:cNvSpPr/>
          <p:nvPr/>
        </p:nvSpPr>
        <p:spPr>
          <a:xfrm flipH="1">
            <a:off x="1371600" y="2666880"/>
            <a:ext cx="2362320" cy="533520"/>
          </a:xfrm>
          <a:prstGeom prst="line">
            <a:avLst/>
          </a:prstGeom>
          <a:ln w="7632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Line 9"/>
          <p:cNvSpPr/>
          <p:nvPr/>
        </p:nvSpPr>
        <p:spPr>
          <a:xfrm>
            <a:off x="4495680" y="2666880"/>
            <a:ext cx="0" cy="762120"/>
          </a:xfrm>
          <a:prstGeom prst="line">
            <a:avLst/>
          </a:prstGeom>
          <a:ln w="7632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Line 10"/>
          <p:cNvSpPr/>
          <p:nvPr/>
        </p:nvSpPr>
        <p:spPr>
          <a:xfrm>
            <a:off x="5791320" y="2666880"/>
            <a:ext cx="2133360" cy="533520"/>
          </a:xfrm>
          <a:prstGeom prst="line">
            <a:avLst/>
          </a:prstGeom>
          <a:ln w="7632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Rectangle 11"/>
          <p:cNvSpPr/>
          <p:nvPr/>
        </p:nvSpPr>
        <p:spPr>
          <a:xfrm>
            <a:off x="304920" y="3429000"/>
            <a:ext cx="2819160" cy="91440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Пропорциональный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налог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Rectangle 12"/>
          <p:cNvSpPr/>
          <p:nvPr/>
        </p:nvSpPr>
        <p:spPr>
          <a:xfrm>
            <a:off x="6400800" y="3429000"/>
            <a:ext cx="2514600" cy="91440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Прогрессивный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налог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Rectangle 13"/>
          <p:cNvSpPr/>
          <p:nvPr/>
        </p:nvSpPr>
        <p:spPr>
          <a:xfrm>
            <a:off x="3429000" y="3505320"/>
            <a:ext cx="2514600" cy="91440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Регрессивный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налог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Text Box 14"/>
          <p:cNvSpPr/>
          <p:nvPr/>
        </p:nvSpPr>
        <p:spPr>
          <a:xfrm>
            <a:off x="3960" y="4724280"/>
            <a:ext cx="2689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умма налога про-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орциональна до-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ходам работников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3098880" y="4730760"/>
            <a:ext cx="245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алог тем выше,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чем ниже доход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Text Box 17"/>
          <p:cNvSpPr/>
          <p:nvPr/>
        </p:nvSpPr>
        <p:spPr>
          <a:xfrm>
            <a:off x="6222960" y="4730760"/>
            <a:ext cx="245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алог тем выше,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чем выше доход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4"/>
          <p:cNvSpPr/>
          <p:nvPr/>
        </p:nvSpPr>
        <p:spPr>
          <a:xfrm>
            <a:off x="2895480" y="457200"/>
            <a:ext cx="3886200" cy="9144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ahoma"/>
              </a:rPr>
              <a:t>Налоги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Line 5"/>
          <p:cNvSpPr/>
          <p:nvPr/>
        </p:nvSpPr>
        <p:spPr>
          <a:xfrm flipH="1">
            <a:off x="1295280" y="1371600"/>
            <a:ext cx="2895840" cy="533520"/>
          </a:xfrm>
          <a:prstGeom prst="line">
            <a:avLst/>
          </a:prstGeom>
          <a:ln w="7632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Line 6"/>
          <p:cNvSpPr/>
          <p:nvPr/>
        </p:nvSpPr>
        <p:spPr>
          <a:xfrm>
            <a:off x="5105520" y="1371600"/>
            <a:ext cx="2438280" cy="609480"/>
          </a:xfrm>
          <a:prstGeom prst="line">
            <a:avLst/>
          </a:prstGeom>
          <a:ln w="7632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304920" y="2057400"/>
            <a:ext cx="3276360" cy="91440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Прямые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5638680" y="2057400"/>
            <a:ext cx="3276720" cy="91440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Косвенные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21276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163800" y="3206880"/>
            <a:ext cx="5592600" cy="28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бязательные платежи, взимаемые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государством с доходов или имущества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юридических и физических лиц: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одоходный налог с населения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алог на прибыль с фирм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алог на имущество, недвижимость,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дарение, наследство, финансовые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перации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5693400" y="3098880"/>
            <a:ext cx="3518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станавливаются в виде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адбавок к цене товара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 услуг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кцизные сборы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алог с продаж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частично НДС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таможенные пошлины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алог на экспорт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4"/>
          <p:cNvSpPr/>
          <p:nvPr/>
        </p:nvSpPr>
        <p:spPr>
          <a:xfrm>
            <a:off x="1752480" y="685800"/>
            <a:ext cx="4953240" cy="9144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Налоги, уплачиваемые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предприятиями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Line 6"/>
          <p:cNvSpPr/>
          <p:nvPr/>
        </p:nvSpPr>
        <p:spPr>
          <a:xfrm flipH="1">
            <a:off x="1904760" y="1600200"/>
            <a:ext cx="1600200" cy="6094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Line 7"/>
          <p:cNvSpPr/>
          <p:nvPr/>
        </p:nvSpPr>
        <p:spPr>
          <a:xfrm>
            <a:off x="4952880" y="1600200"/>
            <a:ext cx="1524240" cy="5335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685800" y="2286000"/>
            <a:ext cx="2971800" cy="9144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Прямой налог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с фирмы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Rectangle 9"/>
          <p:cNvSpPr/>
          <p:nvPr/>
        </p:nvSpPr>
        <p:spPr>
          <a:xfrm>
            <a:off x="4419720" y="2286000"/>
            <a:ext cx="3733560" cy="9144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Косвенный налог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с фирмы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Line 10"/>
          <p:cNvSpPr/>
          <p:nvPr/>
        </p:nvSpPr>
        <p:spPr>
          <a:xfrm>
            <a:off x="1981080" y="3200400"/>
            <a:ext cx="0" cy="457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Line 11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Rectangle 12"/>
          <p:cNvSpPr/>
          <p:nvPr/>
        </p:nvSpPr>
        <p:spPr>
          <a:xfrm>
            <a:off x="228600" y="3657600"/>
            <a:ext cx="36576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Налог на прибыль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Rectangle 13"/>
          <p:cNvSpPr/>
          <p:nvPr/>
        </p:nvSpPr>
        <p:spPr>
          <a:xfrm>
            <a:off x="4419720" y="3657600"/>
            <a:ext cx="4038480" cy="121932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Налог на добавленную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стоимость (НДС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Домашнее задание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араграф 4, задания 3, 4 на странице 54 - выполнить письменно, текст лекции - учи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Oval 5"/>
          <p:cNvSpPr/>
          <p:nvPr/>
        </p:nvSpPr>
        <p:spPr>
          <a:xfrm>
            <a:off x="1828800" y="228600"/>
            <a:ext cx="5943600" cy="33526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ahoma"/>
              </a:rPr>
              <a:t>Фирма</a:t>
            </a: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 - 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это коммерческая  организация,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существляющая затраты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экономических ресурсов для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зготовления товаров и услуг,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еализуемых на рынке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AutoShape 6"/>
          <p:cNvSpPr/>
          <p:nvPr/>
        </p:nvSpPr>
        <p:spPr>
          <a:xfrm>
            <a:off x="2514600" y="3505320"/>
            <a:ext cx="4572000" cy="3352680"/>
          </a:xfrm>
          <a:prstGeom prst="upArrowCallout">
            <a:avLst>
              <a:gd name="adj1" fmla="val 34095"/>
              <a:gd name="adj2" fmla="val 34092"/>
              <a:gd name="adj3" fmla="val 16667"/>
              <a:gd name="adj4" fmla="val 66660"/>
            </a:avLst>
          </a:prstGeom>
          <a:solidFill>
            <a:srgbClr val="eaeaea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ahoma"/>
              </a:rPr>
              <a:t>Цель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получение дохода с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помощью рационального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использования  основных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ресурсов производства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4"/>
          <p:cNvSpPr/>
          <p:nvPr/>
        </p:nvSpPr>
        <p:spPr>
          <a:xfrm>
            <a:off x="2057400" y="152280"/>
            <a:ext cx="5181480" cy="1371600"/>
          </a:xfrm>
          <a:prstGeom prst="bevel">
            <a:avLst>
              <a:gd name="adj" fmla="val 1250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Факторы производства и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факторные доходы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AutoShape 5"/>
          <p:cNvSpPr/>
          <p:nvPr/>
        </p:nvSpPr>
        <p:spPr>
          <a:xfrm rot="2744400">
            <a:off x="1224000" y="1323720"/>
            <a:ext cx="485640" cy="1371600"/>
          </a:xfrm>
          <a:prstGeom prst="downArrow">
            <a:avLst>
              <a:gd name="adj1" fmla="val 50000"/>
              <a:gd name="adj2" fmla="val 70608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2971800" y="16002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4952880" y="15238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AutoShape 8"/>
          <p:cNvSpPr/>
          <p:nvPr/>
        </p:nvSpPr>
        <p:spPr>
          <a:xfrm rot="18910800">
            <a:off x="7313760" y="1387080"/>
            <a:ext cx="485640" cy="1089000"/>
          </a:xfrm>
          <a:prstGeom prst="downArrow">
            <a:avLst>
              <a:gd name="adj1" fmla="val 50000"/>
              <a:gd name="adj2" fmla="val 56060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0" y="2590920"/>
            <a:ext cx="1905120" cy="914400"/>
          </a:xfrm>
          <a:prstGeom prst="rect">
            <a:avLst/>
          </a:prstGeom>
          <a:solidFill>
            <a:srgbClr val="eaeaea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ff"/>
                </a:solidFill>
                <a:latin typeface="Tahoma"/>
              </a:rPr>
              <a:t>Труд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Rectangle 24"/>
          <p:cNvSpPr/>
          <p:nvPr/>
        </p:nvSpPr>
        <p:spPr>
          <a:xfrm>
            <a:off x="1981080" y="2590920"/>
            <a:ext cx="2057400" cy="914400"/>
          </a:xfrm>
          <a:prstGeom prst="rect">
            <a:avLst/>
          </a:prstGeom>
          <a:solidFill>
            <a:srgbClr val="eaeaea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ff"/>
                </a:solidFill>
                <a:latin typeface="Tahoma"/>
              </a:rPr>
              <a:t>Земля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Rectangle 25"/>
          <p:cNvSpPr/>
          <p:nvPr/>
        </p:nvSpPr>
        <p:spPr>
          <a:xfrm>
            <a:off x="4267080" y="2590920"/>
            <a:ext cx="2210040" cy="914400"/>
          </a:xfrm>
          <a:prstGeom prst="rect">
            <a:avLst/>
          </a:prstGeom>
          <a:solidFill>
            <a:srgbClr val="eaeaea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ff"/>
                </a:solidFill>
                <a:latin typeface="Tahoma"/>
              </a:rPr>
              <a:t>Капитал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Rectangle 26"/>
          <p:cNvSpPr/>
          <p:nvPr/>
        </p:nvSpPr>
        <p:spPr>
          <a:xfrm>
            <a:off x="6781680" y="2438280"/>
            <a:ext cx="2362320" cy="1219320"/>
          </a:xfrm>
          <a:prstGeom prst="rect">
            <a:avLst/>
          </a:prstGeom>
          <a:solidFill>
            <a:srgbClr val="eaeaea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ff"/>
                </a:solidFill>
                <a:latin typeface="Tahoma"/>
              </a:rPr>
              <a:t>Предпринима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ff"/>
                </a:solidFill>
                <a:latin typeface="Tahoma"/>
              </a:rPr>
              <a:t>тельские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ff"/>
                </a:solidFill>
                <a:latin typeface="Tahoma"/>
              </a:rPr>
              <a:t>способност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Line 33"/>
          <p:cNvSpPr/>
          <p:nvPr/>
        </p:nvSpPr>
        <p:spPr>
          <a:xfrm flipH="1">
            <a:off x="3657600" y="3581280"/>
            <a:ext cx="457200" cy="3812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Line 34"/>
          <p:cNvSpPr/>
          <p:nvPr/>
        </p:nvSpPr>
        <p:spPr>
          <a:xfrm>
            <a:off x="4572000" y="3505320"/>
            <a:ext cx="0" cy="457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Line 35"/>
          <p:cNvSpPr/>
          <p:nvPr/>
        </p:nvSpPr>
        <p:spPr>
          <a:xfrm>
            <a:off x="5715000" y="3505320"/>
            <a:ext cx="0" cy="457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Line 38"/>
          <p:cNvSpPr/>
          <p:nvPr/>
        </p:nvSpPr>
        <p:spPr>
          <a:xfrm>
            <a:off x="6172200" y="3505320"/>
            <a:ext cx="457200" cy="3808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Rectangle 39"/>
          <p:cNvSpPr/>
          <p:nvPr/>
        </p:nvSpPr>
        <p:spPr>
          <a:xfrm>
            <a:off x="2133720" y="3962520"/>
            <a:ext cx="1523880" cy="6094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Физический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капитал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Rectangle 40"/>
          <p:cNvSpPr/>
          <p:nvPr/>
        </p:nvSpPr>
        <p:spPr>
          <a:xfrm>
            <a:off x="3809880" y="3962520"/>
            <a:ext cx="1295640" cy="6094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Финансовый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капитал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Rectangle 41"/>
          <p:cNvSpPr/>
          <p:nvPr/>
        </p:nvSpPr>
        <p:spPr>
          <a:xfrm>
            <a:off x="5181480" y="3962520"/>
            <a:ext cx="1295640" cy="6094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Инвестиции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Rectangle 42"/>
          <p:cNvSpPr/>
          <p:nvPr/>
        </p:nvSpPr>
        <p:spPr>
          <a:xfrm>
            <a:off x="6705720" y="3962520"/>
            <a:ext cx="1218960" cy="6094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Ссудный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капитал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ext Box 47"/>
          <p:cNvSpPr/>
          <p:nvPr/>
        </p:nvSpPr>
        <p:spPr>
          <a:xfrm>
            <a:off x="2193840" y="5137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Line 49"/>
          <p:cNvSpPr/>
          <p:nvPr/>
        </p:nvSpPr>
        <p:spPr>
          <a:xfrm>
            <a:off x="990720" y="3505320"/>
            <a:ext cx="0" cy="16761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Line 50"/>
          <p:cNvSpPr/>
          <p:nvPr/>
        </p:nvSpPr>
        <p:spPr>
          <a:xfrm>
            <a:off x="1981080" y="3505320"/>
            <a:ext cx="152640" cy="16761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Line 51"/>
          <p:cNvSpPr/>
          <p:nvPr/>
        </p:nvSpPr>
        <p:spPr>
          <a:xfrm>
            <a:off x="8305920" y="3657600"/>
            <a:ext cx="0" cy="1600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Line 52"/>
          <p:cNvSpPr/>
          <p:nvPr/>
        </p:nvSpPr>
        <p:spPr>
          <a:xfrm>
            <a:off x="5791320" y="4572000"/>
            <a:ext cx="0" cy="6858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Oval 53"/>
          <p:cNvSpPr/>
          <p:nvPr/>
        </p:nvSpPr>
        <p:spPr>
          <a:xfrm>
            <a:off x="0" y="5181480"/>
            <a:ext cx="1981080" cy="9144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Заработная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лата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Oval 54"/>
          <p:cNvSpPr/>
          <p:nvPr/>
        </p:nvSpPr>
        <p:spPr>
          <a:xfrm>
            <a:off x="2133720" y="5105520"/>
            <a:ext cx="1981080" cy="9144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ента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Oval 55"/>
          <p:cNvSpPr/>
          <p:nvPr/>
        </p:nvSpPr>
        <p:spPr>
          <a:xfrm>
            <a:off x="4648320" y="5334120"/>
            <a:ext cx="1981080" cy="9144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оцент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Oval 56"/>
          <p:cNvSpPr/>
          <p:nvPr/>
        </p:nvSpPr>
        <p:spPr>
          <a:xfrm>
            <a:off x="6934320" y="5257800"/>
            <a:ext cx="1981080" cy="9144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ибыль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В условиях рыночной экономики производитель формирует предложение товаров и услуг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Выручка (или валовый доход)  -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оход производителя от реализуемой им продук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Прибыль -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ница между доходами и издержка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Цель производителя в рыночной экономике -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получить максимальную прибыль при минимальных затрата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Выберите правильный ответ. 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Доход производителя от реализуемой им продукции называется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быль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ручк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держка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требление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5"/>
          <p:cNvSpPr/>
          <p:nvPr/>
        </p:nvSpPr>
        <p:spPr>
          <a:xfrm>
            <a:off x="3402000" y="152280"/>
            <a:ext cx="2125440" cy="52056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Издержки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Line 6"/>
          <p:cNvSpPr/>
          <p:nvPr/>
        </p:nvSpPr>
        <p:spPr>
          <a:xfrm flipH="1">
            <a:off x="2590920" y="762120"/>
            <a:ext cx="761760" cy="53316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Line 7"/>
          <p:cNvSpPr/>
          <p:nvPr/>
        </p:nvSpPr>
        <p:spPr>
          <a:xfrm>
            <a:off x="5562720" y="762120"/>
            <a:ext cx="685800" cy="53316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0" y="1600200"/>
            <a:ext cx="4125960" cy="164844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Издержки производства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это затраты производителя на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иобретение и использование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факторов производства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4381560" y="1371600"/>
            <a:ext cx="4472280" cy="183132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Экономические издержк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это те выплаты, которая фирма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олжна произвести поставщикам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еобходимых ресурсов, чтобы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твлечь эти ресурсы от использо-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ания в других производствах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Line 10"/>
          <p:cNvSpPr/>
          <p:nvPr/>
        </p:nvSpPr>
        <p:spPr>
          <a:xfrm flipH="1">
            <a:off x="2057400" y="3276720"/>
            <a:ext cx="3581280" cy="761760"/>
          </a:xfrm>
          <a:prstGeom prst="line">
            <a:avLst/>
          </a:prstGeom>
          <a:ln w="5724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Line 11"/>
          <p:cNvSpPr/>
          <p:nvPr/>
        </p:nvSpPr>
        <p:spPr>
          <a:xfrm>
            <a:off x="6019920" y="3276720"/>
            <a:ext cx="2361960" cy="838080"/>
          </a:xfrm>
          <a:prstGeom prst="line">
            <a:avLst/>
          </a:prstGeom>
          <a:ln w="5724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464400" y="4267080"/>
            <a:ext cx="3157200" cy="155700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Внутренние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тоимость собственного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есурса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13"/>
          <p:cNvSpPr/>
          <p:nvPr/>
        </p:nvSpPr>
        <p:spPr>
          <a:xfrm>
            <a:off x="4479840" y="4191120"/>
            <a:ext cx="4340160" cy="155700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Внешние (бухгалтерские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ыплаты поставщикам трудовых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есурсов, сырья, топлива, услуг и т.д.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Внутренние (неявные) издержки 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вны денежным выплатам, которые могли бы быть получены за самостоятельно используемый ресурс, если бы его собственник вложил его в чужое дело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Внешние (бухгалтерские) издержки 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о сумма денежных выплат, которые фирма осуществляет для оплаты необходимых ресурсов.</a:t>
            </a:r>
            <a:br>
              <a:rPr sz="2400"/>
            </a:b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7" name="Line 6"/>
          <p:cNvSpPr/>
          <p:nvPr/>
        </p:nvSpPr>
        <p:spPr>
          <a:xfrm flipH="1">
            <a:off x="1828800" y="4114800"/>
            <a:ext cx="1371600" cy="533520"/>
          </a:xfrm>
          <a:prstGeom prst="line">
            <a:avLst/>
          </a:prstGeom>
          <a:ln w="5724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Line 7"/>
          <p:cNvSpPr/>
          <p:nvPr/>
        </p:nvSpPr>
        <p:spPr>
          <a:xfrm>
            <a:off x="5334120" y="4114800"/>
            <a:ext cx="1371600" cy="380880"/>
          </a:xfrm>
          <a:prstGeom prst="line">
            <a:avLst/>
          </a:prstGeom>
          <a:ln w="5724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228600" y="4724280"/>
            <a:ext cx="3962520" cy="91440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Постоянные издержк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4952880" y="4724280"/>
            <a:ext cx="3962520" cy="91440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Переменные издержк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Амортизация –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меньшение стоимости капитальных ресурсов по мере их износа в процессе производственного использования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28240" y="304920"/>
            <a:ext cx="83818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Ателье производит закупку тканей, ниток и фурнитуры для пошива одежды. Затраты фирмы -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нутренние, перемен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нутренние, постоян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нешние, перемен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нешние, постоянны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Гражданин организовал на принадлежащем ему загородном участке гостиницу для собак и кошек: построил дом и открытые вольеры, закупил корма. Сам гражданин и его семья работают в гостинице. Что относится к внутренним затратам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купка корм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роительство вольер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орудование до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пользование зем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1-10T11:15:21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